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7E7-E6F0-4187-A65B-A5E91CFD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CF6-C5F4-477E-9F9E-A35B60FB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4F8-82A5-4A74-B9EE-A54D39A7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08A-D95D-4687-AAE7-2197FDC9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79A-69D7-4415-984C-E89AB509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05D-8CE2-42D3-AD61-636E8B46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2DE-A317-4A77-9D81-61692EA4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A96-CDE0-4789-8E09-BECC0A60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8C7-378D-47A1-8140-FE766A3F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AB9-7C7D-4699-9D57-E9D59BE7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A28-825F-4768-B6B3-2F0F1AEC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4E5-74D1-40C1-8C6E-D789259E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FBCF-15D7-4C21-9C26-81AF52B66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CHOOLc" descr=""/>
          <p:cNvPicPr/>
          <p:nvPr/>
        </p:nvPicPr>
        <p:blipFill>
          <a:blip r:embed="rId1"/>
          <a:stretch/>
        </p:blipFill>
        <p:spPr>
          <a:xfrm>
            <a:off x="1660680" y="468360"/>
            <a:ext cx="6275160" cy="579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11280" y="2432160"/>
            <a:ext cx="4070160" cy="19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ruption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695760" y="4626000"/>
            <a:ext cx="496080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3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Discipline Probl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30680" y="816120"/>
            <a:ext cx="424980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Behavior Probl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36480" y="2698920"/>
          <a:ext cx="7618680" cy="19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698920"/>
                    <a:ext cx="761868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311840" y="4545000"/>
            <a:ext cx="10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30400" y="4545000"/>
            <a:ext cx="133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98160" y="4545000"/>
            <a:ext cx="10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902720" y="4703760"/>
            <a:ext cx="647640" cy="1204920"/>
            <a:chOff x="7902720" y="4703760"/>
            <a:chExt cx="647640" cy="1204920"/>
          </a:xfrm>
        </p:grpSpPr>
        <p:pic>
          <p:nvPicPr>
            <p:cNvPr id="124" name="KEY" descr=""/>
            <p:cNvPicPr/>
            <p:nvPr/>
          </p:nvPicPr>
          <p:blipFill>
            <a:blip r:embed="rId3"/>
            <a:stretch/>
          </p:blipFill>
          <p:spPr>
            <a:xfrm>
              <a:off x="7902720" y="4703760"/>
              <a:ext cx="6476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027640" y="4749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2200" y="6031080"/>
            <a:ext cx="248436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hat we need from th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37040" y="6031080"/>
            <a:ext cx="264636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hat we will teach th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3520" y="6031080"/>
            <a:ext cx="270648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hat the child needs from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9240" y="1141560"/>
          <a:ext cx="4311720" cy="161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9240" y="1141560"/>
                    <a:ext cx="4311720" cy="1616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flipV="1">
            <a:off x="4411800" y="27079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78040" y="1928880"/>
            <a:ext cx="744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needs to learn to stop hurting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ardvark"/>
              </a:rPr>
              <a:t>Playing with 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36480" y="2698920"/>
          <a:ext cx="7618680" cy="19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698920"/>
                    <a:ext cx="761868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79320" y="4937040"/>
            <a:ext cx="213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needs to learn to stop hurting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920" y="192888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needs to learn to control her 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9800" y="4937040"/>
            <a:ext cx="21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needs to learn to control her 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06560" y="1928880"/>
            <a:ext cx="74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needs to be forewarned of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21360" y="4937040"/>
            <a:ext cx="21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needs to be forewarned of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36480" y="2698920"/>
          <a:ext cx="7618680" cy="19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698920"/>
                    <a:ext cx="761868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2289240" y="1141560"/>
            <a:ext cx="4311720" cy="1870920"/>
            <a:chOff x="2289240" y="1141560"/>
            <a:chExt cx="4311720" cy="1870920"/>
          </a:xfrm>
        </p:grpSpPr>
        <p:graphicFrame>
          <p:nvGraphicFramePr>
            <p:cNvPr id="144" name=""/>
            <p:cNvGraphicFramePr/>
            <p:nvPr/>
          </p:nvGraphicFramePr>
          <p:xfrm>
            <a:off x="2289240" y="1141560"/>
            <a:ext cx="4311720" cy="161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9240" y="1141560"/>
                      <a:ext cx="4311720" cy="16164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 flipV="1">
              <a:off x="4411800" y="2708280"/>
              <a:ext cx="0" cy="30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311840" y="4545000"/>
            <a:ext cx="10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0400" y="4545000"/>
            <a:ext cx="133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98160" y="4545000"/>
            <a:ext cx="10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902720" y="4703760"/>
            <a:ext cx="647640" cy="1204920"/>
            <a:chOff x="7902720" y="4703760"/>
            <a:chExt cx="647640" cy="1204920"/>
          </a:xfrm>
        </p:grpSpPr>
        <p:pic>
          <p:nvPicPr>
            <p:cNvPr id="151" name="KEY" descr=""/>
            <p:cNvPicPr/>
            <p:nvPr/>
          </p:nvPicPr>
          <p:blipFill>
            <a:blip r:embed="rId5"/>
            <a:stretch/>
          </p:blipFill>
          <p:spPr>
            <a:xfrm>
              <a:off x="7902720" y="4703760"/>
              <a:ext cx="6476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027640" y="4749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22200" y="6031080"/>
            <a:ext cx="248436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hat we need from th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7040" y="6031080"/>
            <a:ext cx="264636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hat we will teach th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3520" y="6031080"/>
            <a:ext cx="270648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hat the child needs from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80880" y="1905120"/>
            <a:ext cx="7925040" cy="914400"/>
            <a:chOff x="380880" y="1905120"/>
            <a:chExt cx="7925040" cy="914400"/>
          </a:xfrm>
        </p:grpSpPr>
        <p:sp>
          <p:nvSpPr>
            <p:cNvPr id="157" name=""/>
            <p:cNvSpPr/>
            <p:nvPr/>
          </p:nvSpPr>
          <p:spPr>
            <a:xfrm>
              <a:off x="4495680" y="1905120"/>
              <a:ext cx="3810240" cy="914400"/>
            </a:xfrm>
            <a:custGeom>
              <a:avLst/>
              <a:gdLst>
                <a:gd name="textAreaLeft" fmla="*/ 952560 w 3810240"/>
                <a:gd name="textAreaRight" fmla="*/ 2857680 w 3810240"/>
                <a:gd name="textAreaTop" fmla="*/ 0 h 914400"/>
                <a:gd name="textAreaBottom" fmla="*/ 80028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0880" y="1905120"/>
              <a:ext cx="3810240" cy="914400"/>
            </a:xfrm>
            <a:custGeom>
              <a:avLst/>
              <a:gdLst>
                <a:gd name="textAreaLeft" fmla="*/ 952560 w 3810240"/>
                <a:gd name="textAreaRight" fmla="*/ 2857680 w 3810240"/>
                <a:gd name="textAreaTop" fmla="*/ 0 h 914400"/>
                <a:gd name="textAreaBottom" fmla="*/ 80028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604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7880" y="193176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79840" y="1931760"/>
            <a:ext cx="3810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5812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we do so the negative behavior isn’t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5812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we deal with problem behavior when it does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01960" y="5127480"/>
            <a:ext cx="718920" cy="1332000"/>
            <a:chOff x="2001960" y="5127480"/>
            <a:chExt cx="718920" cy="1332000"/>
          </a:xfrm>
        </p:grpSpPr>
        <p:pic>
          <p:nvPicPr>
            <p:cNvPr id="165" name="KEY" descr=""/>
            <p:cNvPicPr/>
            <p:nvPr/>
          </p:nvPicPr>
          <p:blipFill>
            <a:blip r:embed="rId1"/>
            <a:stretch/>
          </p:blipFill>
          <p:spPr>
            <a:xfrm>
              <a:off x="2001960" y="5127480"/>
              <a:ext cx="71892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188800" y="517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322280" y="299880"/>
            <a:ext cx="7139160" cy="3106800"/>
          </a:xfrm>
          <a:prstGeom prst="cloudCallout">
            <a:avLst>
              <a:gd name="adj1" fmla="val -23050"/>
              <a:gd name="adj2" fmla="val 7570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Th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address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emotional needs s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ing strategies are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32480" y="5753160"/>
            <a:ext cx="1122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431720" y="793440"/>
            <a:ext cx="6002640" cy="857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Suppor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31920" y="1844640"/>
            <a:ext cx="8310600" cy="1503360"/>
            <a:chOff x="331920" y="1844640"/>
            <a:chExt cx="8310600" cy="1503360"/>
          </a:xfrm>
        </p:grpSpPr>
        <p:sp>
          <p:nvSpPr>
            <p:cNvPr id="171" name=""/>
            <p:cNvSpPr/>
            <p:nvPr/>
          </p:nvSpPr>
          <p:spPr>
            <a:xfrm>
              <a:off x="331920" y="1844640"/>
              <a:ext cx="7738920" cy="150336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465840" y="2042280"/>
              <a:ext cx="8176680" cy="84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77000"/>
            </a:bodyPr>
            <a:p>
              <a:pPr marL="263880" indent="-263880">
                <a:spcBef>
                  <a:spcPts val="799"/>
                </a:spcBef>
                <a:buClr>
                  <a:srgbClr val="99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99"/>
                  </a:solidFill>
                  <a:latin typeface="Times New Roman"/>
                </a:rPr>
                <a:t>School and Divisional/Distri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99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990099"/>
                  </a:solidFill>
                  <a:latin typeface="Times New Roman"/>
                </a:rPr>
                <a:t>(Resource, clinicians, counselor, assistant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31920" y="3294000"/>
            <a:ext cx="8605800" cy="1503360"/>
            <a:chOff x="331920" y="3294000"/>
            <a:chExt cx="8605800" cy="1503360"/>
          </a:xfrm>
        </p:grpSpPr>
        <p:sp>
          <p:nvSpPr>
            <p:cNvPr id="174" name=""/>
            <p:cNvSpPr/>
            <p:nvPr/>
          </p:nvSpPr>
          <p:spPr>
            <a:xfrm>
              <a:off x="331920" y="3294000"/>
              <a:ext cx="8521560" cy="150336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9520" y="3495600"/>
              <a:ext cx="8458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buClr>
                  <a:srgbClr val="99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99"/>
                  </a:solidFill>
                  <a:latin typeface="Times New Roman"/>
                </a:rPr>
                <a:t>Outside Professionals and Community Suppor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5800" indent="-325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99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990099"/>
                  </a:solidFill>
                  <a:latin typeface="Times New Roman"/>
                </a:rPr>
                <a:t>(Mental Health, Child Welfare, AFM Worker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31920" y="4743360"/>
            <a:ext cx="7985160" cy="2114640"/>
            <a:chOff x="331920" y="4743360"/>
            <a:chExt cx="7985160" cy="2114640"/>
          </a:xfrm>
        </p:grpSpPr>
        <p:sp>
          <p:nvSpPr>
            <p:cNvPr id="177" name=""/>
            <p:cNvSpPr/>
            <p:nvPr/>
          </p:nvSpPr>
          <p:spPr>
            <a:xfrm>
              <a:off x="331920" y="4743360"/>
              <a:ext cx="7738920" cy="211464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4680" y="5008680"/>
              <a:ext cx="7772400" cy="15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buClr>
                  <a:srgbClr val="99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99"/>
                  </a:solidFill>
                  <a:latin typeface="Times New Roman"/>
                </a:rPr>
                <a:t>Family Suppor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99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990099"/>
                  </a:solidFill>
                  <a:latin typeface="Times New Roman"/>
                </a:rPr>
                <a:t>(Respite, Family Preservation, Crisis Stabilization Units, Home Care Workers)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386080" y="2927520"/>
            <a:ext cx="4190760" cy="2786040"/>
          </a:xfrm>
          <a:prstGeom prst="wedgeRectCallout">
            <a:avLst>
              <a:gd name="adj1" fmla="val -57157"/>
              <a:gd name="adj2" fmla="val -68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ssumed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udents requ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upervisio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al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601560"/>
            <a:ext cx="4290840" cy="27464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s that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have are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d by school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qui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are beyond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5320" y="681120"/>
            <a:ext cx="5132520" cy="38894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may requ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to deal with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 of their chil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ome.  Hom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crucial if we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successful in hel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0760" y="5132520"/>
            <a:ext cx="622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7160" y="977760"/>
            <a:ext cx="7790040" cy="3961080"/>
          </a:xfrm>
          <a:prstGeom prst="cloudCallout">
            <a:avLst>
              <a:gd name="adj1" fmla="val -45925"/>
              <a:gd name="adj2" fmla="val 691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Th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pports do the caregivers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unction effectively with the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home.  Not what can the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o support the schoo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comes and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dent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know that our programming was success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know that we are on tra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2360" y="4991040"/>
            <a:ext cx="8180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must be written in such a manner that we will know when students have met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27360" y="4148280"/>
            <a:ext cx="6135480" cy="1804680"/>
          </a:xfrm>
          <a:prstGeom prst="wedgeRoundRectCallout">
            <a:avLst>
              <a:gd name="adj1" fmla="val -41152"/>
              <a:gd name="adj2" fmla="val -13214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all you need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ing personal/emo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s by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4081320"/>
            <a:ext cx="6135840" cy="2325960"/>
          </a:xfrm>
          <a:prstGeom prst="wedgeRoundRectCallout">
            <a:avLst>
              <a:gd name="adj1" fmla="val 33569"/>
              <a:gd name="adj2" fmla="val -110342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articularly important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ing social-learning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when person/emotion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o be addressed in s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ehavior Intervention 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16224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ritical Programming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38862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nterven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461016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Sup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Purpose and 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5334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For EBD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3510000"/>
            <a:ext cx="483552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cial-Learning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273560"/>
            <a:ext cx="63118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al/Emotional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5057640"/>
            <a:ext cx="48355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ve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5823000"/>
            <a:ext cx="48355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active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981080"/>
            <a:ext cx="5675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aviora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2744640"/>
            <a:ext cx="6108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Understa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761160" y="2611440"/>
            <a:ext cx="492120" cy="1120680"/>
            <a:chOff x="6761160" y="2611440"/>
            <a:chExt cx="492120" cy="1120680"/>
          </a:xfrm>
        </p:grpSpPr>
        <p:pic>
          <p:nvPicPr>
            <p:cNvPr id="204" name="KEY" descr=""/>
            <p:cNvPicPr/>
            <p:nvPr/>
          </p:nvPicPr>
          <p:blipFill>
            <a:blip r:embed="rId1"/>
            <a:stretch/>
          </p:blipFill>
          <p:spPr>
            <a:xfrm>
              <a:off x="6761160" y="2611440"/>
              <a:ext cx="4921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809760" y="264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683400" y="4025880"/>
            <a:ext cx="647640" cy="1204920"/>
            <a:chOff x="6683400" y="4025880"/>
            <a:chExt cx="647640" cy="1204920"/>
          </a:xfrm>
        </p:grpSpPr>
        <p:pic>
          <p:nvPicPr>
            <p:cNvPr id="207" name="KEY" descr=""/>
            <p:cNvPicPr/>
            <p:nvPr/>
          </p:nvPicPr>
          <p:blipFill>
            <a:blip r:embed="rId2"/>
            <a:stretch/>
          </p:blipFill>
          <p:spPr>
            <a:xfrm>
              <a:off x="6683400" y="4025880"/>
              <a:ext cx="6476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08320" y="4071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647040" y="5526000"/>
            <a:ext cx="718920" cy="1332000"/>
            <a:chOff x="6647040" y="5526000"/>
            <a:chExt cx="718920" cy="1332000"/>
          </a:xfrm>
        </p:grpSpPr>
        <p:pic>
          <p:nvPicPr>
            <p:cNvPr id="210" name="KEY" descr=""/>
            <p:cNvPicPr/>
            <p:nvPr/>
          </p:nvPicPr>
          <p:blipFill>
            <a:blip r:embed="rId3"/>
            <a:stretch/>
          </p:blipFill>
          <p:spPr>
            <a:xfrm>
              <a:off x="6647040" y="5526000"/>
              <a:ext cx="71892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33880" y="557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CHOOLc" descr=""/>
          <p:cNvPicPr/>
          <p:nvPr/>
        </p:nvPicPr>
        <p:blipFill>
          <a:blip r:embed="rId1"/>
          <a:stretch/>
        </p:blipFill>
        <p:spPr>
          <a:xfrm>
            <a:off x="1660680" y="468360"/>
            <a:ext cx="6275160" cy="579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304920"/>
            <a:ext cx="8229600" cy="61722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77960" y="709560"/>
            <a:ext cx="3826080" cy="499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.B.D.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1801080" y="3456000"/>
            <a:ext cx="3132360" cy="63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Behavior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2605320" y="3032640"/>
            <a:ext cx="3657600" cy="63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Intervention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3748320" y="2728080"/>
            <a:ext cx="3657600" cy="63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Planning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11280" y="816120"/>
            <a:ext cx="8269200" cy="5443560"/>
            <a:chOff x="611280" y="816120"/>
            <a:chExt cx="8269200" cy="5443560"/>
          </a:xfrm>
        </p:grpSpPr>
        <p:sp>
          <p:nvSpPr>
            <p:cNvPr id="54" name=""/>
            <p:cNvSpPr txBox="1"/>
            <p:nvPr/>
          </p:nvSpPr>
          <p:spPr>
            <a:xfrm>
              <a:off x="611280" y="2432160"/>
              <a:ext cx="4070160" cy="195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7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Classroom</a:t>
              </a:r>
              <a:endPara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Disruptions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3695760" y="4626000"/>
              <a:ext cx="4960800" cy="1633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8367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Black"/>
                </a:rPr>
                <a:t>Discipline Problem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4630680" y="816120"/>
              <a:ext cx="4249800" cy="21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764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3500000"/>
                  </a:gradFill>
                  <a:latin typeface="Impact"/>
                </a:rPr>
                <a:t>Behavior Problem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04920"/>
            <a:ext cx="8229600" cy="61722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77960" y="709560"/>
            <a:ext cx="3826080" cy="499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.B.D.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 rot="5400000">
            <a:off x="1801080" y="3456000"/>
            <a:ext cx="3132360" cy="63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Behavior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 rot="5400000">
            <a:off x="2605320" y="3032640"/>
            <a:ext cx="3657600" cy="63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Intervention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 rot="5400000">
            <a:off x="3748320" y="2728080"/>
            <a:ext cx="3657600" cy="63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Planning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609120"/>
            <a:ext cx="8514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tudent Specific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E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I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895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429000"/>
            <a:ext cx="380988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demic learning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earning needs including social, behavior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895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dentify and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3429000"/>
            <a:ext cx="3809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ional/behaviora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servic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system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805040" y="2084400"/>
            <a:ext cx="2365200" cy="4773600"/>
            <a:chOff x="1805040" y="2084400"/>
            <a:chExt cx="2365200" cy="4773600"/>
          </a:xfrm>
        </p:grpSpPr>
        <p:sp>
          <p:nvSpPr>
            <p:cNvPr id="72" name=""/>
            <p:cNvSpPr/>
            <p:nvPr/>
          </p:nvSpPr>
          <p:spPr>
            <a:xfrm>
              <a:off x="1805040" y="2084400"/>
              <a:ext cx="2365200" cy="477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1963800" y="2149560"/>
              <a:ext cx="2046240" cy="438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</a:rPr>
                <a:t>OTH</a:t>
              </a:r>
              <a:endPara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</a:rPr>
                <a:t>MH</a:t>
              </a:r>
              <a:endPara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594400" y="2106720"/>
            <a:ext cx="3208320" cy="4750920"/>
            <a:chOff x="5594400" y="2106720"/>
            <a:chExt cx="3208320" cy="4750920"/>
          </a:xfrm>
        </p:grpSpPr>
        <p:sp>
          <p:nvSpPr>
            <p:cNvPr id="75" name=""/>
            <p:cNvSpPr/>
            <p:nvPr/>
          </p:nvSpPr>
          <p:spPr>
            <a:xfrm>
              <a:off x="5594400" y="2106720"/>
              <a:ext cx="3208320" cy="475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5813280" y="2219040"/>
              <a:ext cx="2909880" cy="456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</a:rPr>
                <a:t>E.B.D.</a:t>
              </a:r>
              <a:endPara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4120" y="1177920"/>
            <a:ext cx="419112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fe school policies and proced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des of con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ent involvement initia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ans for positive learning environ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ive classroom management strateg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s to develop personal and social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ltural and racial d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241200"/>
            <a:ext cx="8320320" cy="782640"/>
          </a:xfrm>
          <a:custGeom>
            <a:avLst/>
            <a:gdLst>
              <a:gd name="textAreaLeft" fmla="*/ 2080080 w 8320320"/>
              <a:gd name="textAreaRight" fmla="*/ 6240240 w 8320320"/>
              <a:gd name="textAreaTop" fmla="*/ 0 h 782640"/>
              <a:gd name="textAreaBottom" fmla="*/ 685080 h 782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18080" y="1644480"/>
            <a:ext cx="4145040" cy="4390920"/>
            <a:chOff x="4618080" y="1644480"/>
            <a:chExt cx="4145040" cy="4390920"/>
          </a:xfrm>
        </p:grpSpPr>
        <p:sp>
          <p:nvSpPr>
            <p:cNvPr id="80" name=""/>
            <p:cNvSpPr txBox="1"/>
            <p:nvPr/>
          </p:nvSpPr>
          <p:spPr>
            <a:xfrm>
              <a:off x="5167440" y="4838400"/>
              <a:ext cx="3046320" cy="119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7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Times New Roman"/>
                </a:rPr>
                <a:t>Effective</a:t>
              </a:r>
              <a:endPara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Times New Roman"/>
                </a:rPr>
                <a:t>School</a:t>
              </a:r>
              <a:endPara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81" name="SCHOOLc" descr=""/>
            <p:cNvPicPr/>
            <p:nvPr/>
          </p:nvPicPr>
          <p:blipFill>
            <a:blip r:embed="rId5"/>
            <a:stretch/>
          </p:blipFill>
          <p:spPr>
            <a:xfrm>
              <a:off x="4618080" y="1644480"/>
              <a:ext cx="4145040" cy="32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avior Intervention 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16224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ritical Programming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8862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nterven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61016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Sup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Purpose and 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5334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comes and 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Purpose a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600200"/>
            <a:ext cx="4038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we trying to accomplish with this pl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7680" y="37306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imes New Roman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7680" y="4187880"/>
            <a:ext cx="4114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tudent trying to accomplish with these problem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52320" y="148896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behavio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67360" y="5230800"/>
            <a:ext cx="28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behavior and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7000" y="1940040"/>
            <a:ext cx="2286000" cy="30477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8039160" y="5337000"/>
            <a:ext cx="492120" cy="1121040"/>
            <a:chOff x="8039160" y="5337000"/>
            <a:chExt cx="492120" cy="1121040"/>
          </a:xfrm>
        </p:grpSpPr>
        <p:pic>
          <p:nvPicPr>
            <p:cNvPr id="97" name="KEY" descr=""/>
            <p:cNvPicPr/>
            <p:nvPr/>
          </p:nvPicPr>
          <p:blipFill>
            <a:blip r:embed="rId2"/>
            <a:stretch/>
          </p:blipFill>
          <p:spPr>
            <a:xfrm>
              <a:off x="8039160" y="5337000"/>
              <a:ext cx="4921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087760" y="5372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31720" y="279360"/>
            <a:ext cx="7608960" cy="3689280"/>
          </a:xfrm>
          <a:prstGeom prst="cloudCallout">
            <a:avLst>
              <a:gd name="adj1" fmla="val 13967"/>
              <a:gd name="adj2" fmla="val 877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Th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these behaviors useful to the stu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student learn to use these strate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s with the student, knowl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s and behavior patterns, 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’s life experiences help us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question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9280" y="5634000"/>
            <a:ext cx="1082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01640" y="932040"/>
            <a:ext cx="79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care what you do.  It doesn’t bother me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he touches me, I’ll kick him again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640" y="3968640"/>
            <a:ext cx="799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te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behaviors occur at recess, just before or just af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behaviors occur just after you have a positive meeting with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640" y="5670720"/>
            <a:ext cx="79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fe Experi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stupid, I’ll never be able to do this stuff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care, it doesn’t bother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640" y="2266920"/>
            <a:ext cx="799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gg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d “no” or any direction telling them to stop what they are doing or that they are unable to do what they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positive statements or encourag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43120" y="299880"/>
            <a:ext cx="38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ardvark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36480" y="2698920"/>
          <a:ext cx="7618680" cy="19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698920"/>
                    <a:ext cx="761868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2289240" y="1141560"/>
            <a:ext cx="4311720" cy="1870920"/>
            <a:chOff x="2289240" y="1141560"/>
            <a:chExt cx="4311720" cy="1870920"/>
          </a:xfrm>
        </p:grpSpPr>
        <p:graphicFrame>
          <p:nvGraphicFramePr>
            <p:cNvPr id="109" name=""/>
            <p:cNvGraphicFramePr/>
            <p:nvPr/>
          </p:nvGraphicFramePr>
          <p:xfrm>
            <a:off x="2289240" y="1141560"/>
            <a:ext cx="4311720" cy="161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9240" y="1141560"/>
                      <a:ext cx="4311720" cy="16164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 flipV="1">
              <a:off x="4411800" y="2708280"/>
              <a:ext cx="0" cy="30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895480" y="1219320"/>
            <a:ext cx="4876920" cy="2286000"/>
          </a:xfrm>
          <a:prstGeom prst="wedgeRoundRectCallout">
            <a:avLst>
              <a:gd name="adj1" fmla="val -48013"/>
              <a:gd name="adj2" fmla="val 86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unity and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level of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curity and th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learning in the class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80880"/>
            <a:ext cx="3753000" cy="3124440"/>
          </a:xfrm>
          <a:prstGeom prst="wedgeRoundRectCallout">
            <a:avLst>
              <a:gd name="adj1" fmla="val 33754"/>
              <a:gd name="adj2" fmla="val 75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ro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prag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 that we 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each these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rich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57200"/>
            <a:ext cx="6168960" cy="3581280"/>
          </a:xfrm>
          <a:prstGeom prst="wedgeRoundRectCallout">
            <a:avLst>
              <a:gd name="adj1" fmla="val 43773"/>
              <a:gd name="adj2" fmla="val 587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hildren have needs that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ddressed if they are to remain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schools or classrooms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ough to learn the social-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 we wish to teac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09588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0"/>
            <a:ext cx="8018640" cy="3448080"/>
          </a:xfrm>
          <a:prstGeom prst="cloudCallout">
            <a:avLst>
              <a:gd name="adj1" fmla="val 23430"/>
              <a:gd name="adj2" fmla="val 7462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Th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MALL critic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d by the way the student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or her behavior?  What does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need from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680" y="3949560"/>
            <a:ext cx="5011560" cy="2908440"/>
          </a:xfrm>
          <a:prstGeom prst="cloudCallout">
            <a:avLst>
              <a:gd name="adj1" fmla="val 68245"/>
              <a:gd name="adj2" fmla="val -37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the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rom us based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ed synd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isord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18:55:58Z</dcterms:created>
  <dc:creator>Desktop Initiative Base v1.0</dc:creator>
  <dc:description/>
  <dc:language>en-US</dc:language>
  <cp:lastModifiedBy>Alice Spencler</cp:lastModifiedBy>
  <dcterms:modified xsi:type="dcterms:W3CDTF">2000-12-21T22:28:48Z</dcterms:modified>
  <cp:revision>79</cp:revision>
  <dc:subject/>
  <dc:title>Two Program Components</dc:title>
</cp:coreProperties>
</file>