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6DCB-386E-42D3-A932-7E18AFDFF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7336-406C-420B-8401-BB7369FFF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B2E2-E599-4DB8-A148-5599745D4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4F27-CE7A-4407-A36D-13CA2BDB3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6795-98BD-40EF-8C38-2808F2789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F8C2-EFF8-44DF-9A64-2B98683DB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D937-1BF4-48E6-A357-B920148C7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ABEA-50DA-4C40-85AB-7116B9CC5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948D-7BA0-4AEE-ADB5-F1D8602F3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B69F-B955-4A0C-B559-0D8F0A9DF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EFF9-BA56-48E7-AD0F-9CC5E6108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A681-3105-4E94-99A6-16490D90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B5B09-113E-42BB-90F3-338CB7DCF5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CHOOLc" descr=""/>
          <p:cNvPicPr/>
          <p:nvPr/>
        </p:nvPicPr>
        <p:blipFill>
          <a:blip r:embed="rId1"/>
          <a:stretch/>
        </p:blipFill>
        <p:spPr>
          <a:xfrm>
            <a:off x="1660680" y="468360"/>
            <a:ext cx="6275160" cy="5799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611280" y="2432160"/>
            <a:ext cx="4070160" cy="195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7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lassroom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Disruptions</a:t>
            </a:r>
            <a:endParaRPr b="0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695760" y="4626000"/>
            <a:ext cx="4960800" cy="163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36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 Black"/>
              </a:rPr>
              <a:t>Discipline Problem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30680" y="816120"/>
            <a:ext cx="4249800" cy="21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Behavior Problem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636480" y="2701800"/>
          <a:ext cx="7618680" cy="196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6480" y="2701800"/>
                    <a:ext cx="7618680" cy="19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2289240" y="954000"/>
          <a:ext cx="4311720" cy="153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9240" y="954000"/>
                    <a:ext cx="4311720" cy="15321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 flipV="1">
            <a:off x="4411800" y="247932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11840" y="4896000"/>
            <a:ext cx="1041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30400" y="4896000"/>
            <a:ext cx="133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698160" y="4896000"/>
            <a:ext cx="1086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6095880"/>
            <a:ext cx="2666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7902720" y="5054760"/>
            <a:ext cx="647640" cy="1204920"/>
            <a:chOff x="7902720" y="5054760"/>
            <a:chExt cx="647640" cy="1204920"/>
          </a:xfrm>
        </p:grpSpPr>
        <p:pic>
          <p:nvPicPr>
            <p:cNvPr id="116" name="KEY" descr=""/>
            <p:cNvPicPr/>
            <p:nvPr/>
          </p:nvPicPr>
          <p:blipFill>
            <a:blip r:embed="rId5"/>
            <a:stretch/>
          </p:blipFill>
          <p:spPr>
            <a:xfrm>
              <a:off x="7902720" y="5054760"/>
              <a:ext cx="647640" cy="12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8027640" y="51004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0" y="5132520"/>
            <a:ext cx="58104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636480" y="2701800"/>
          <a:ext cx="7618680" cy="196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6480" y="2701800"/>
                    <a:ext cx="7618680" cy="19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2289240" y="914400"/>
          <a:ext cx="4311720" cy="1612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9240" y="914400"/>
                    <a:ext cx="4311720" cy="16128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 flipV="1">
            <a:off x="4411800" y="247932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58800"/>
            <a:ext cx="4876920" cy="2286000"/>
          </a:xfrm>
          <a:prstGeom prst="wedgeRoundRectCallout">
            <a:avLst>
              <a:gd name="adj1" fmla="val 3939"/>
              <a:gd name="adj2" fmla="val 7430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mmunity and sch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the level of safe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security and the 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learning in the classroo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91000" y="0"/>
            <a:ext cx="3753000" cy="3124080"/>
          </a:xfrm>
          <a:prstGeom prst="wedgeRoundRectCallout">
            <a:avLst>
              <a:gd name="adj1" fmla="val -53597"/>
              <a:gd name="adj2" fmla="val 6361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proso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pragma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kills that we w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teach these child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nrich the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11840" y="4896000"/>
            <a:ext cx="1041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30400" y="4896000"/>
            <a:ext cx="133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698160" y="4896000"/>
            <a:ext cx="1086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6095880"/>
            <a:ext cx="2666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5132520"/>
            <a:ext cx="58104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636480" y="2701800"/>
          <a:ext cx="7618680" cy="196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6480" y="2701800"/>
                    <a:ext cx="7618680" cy="19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3" name=""/>
          <p:cNvGrpSpPr/>
          <p:nvPr/>
        </p:nvGrpSpPr>
        <p:grpSpPr>
          <a:xfrm>
            <a:off x="2289240" y="912960"/>
            <a:ext cx="4311720" cy="1870920"/>
            <a:chOff x="2289240" y="912960"/>
            <a:chExt cx="4311720" cy="1870920"/>
          </a:xfrm>
        </p:grpSpPr>
        <p:graphicFrame>
          <p:nvGraphicFramePr>
            <p:cNvPr id="134" name=""/>
            <p:cNvGraphicFramePr/>
            <p:nvPr/>
          </p:nvGraphicFramePr>
          <p:xfrm>
            <a:off x="2289240" y="912960"/>
            <a:ext cx="4311720" cy="1616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89240" y="912960"/>
                      <a:ext cx="4311720" cy="161640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07932" dir="2700000" blurRad="0" rotWithShape="0">
                        <a:srgbClr val="80808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136" name=""/>
            <p:cNvSpPr/>
            <p:nvPr/>
          </p:nvSpPr>
          <p:spPr>
            <a:xfrm flipV="1">
              <a:off x="4411800" y="2479680"/>
              <a:ext cx="0" cy="30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344520" y="0"/>
            <a:ext cx="6168960" cy="3581280"/>
          </a:xfrm>
          <a:prstGeom prst="wedgeRoundRectCallout">
            <a:avLst>
              <a:gd name="adj1" fmla="val 43129"/>
              <a:gd name="adj2" fmla="val 7154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children have needs that m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addressed if they are to remain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r schools or classrooms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ough to learn the social-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kills we wish to teach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11840" y="4896000"/>
            <a:ext cx="1041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30400" y="4896000"/>
            <a:ext cx="133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698160" y="4896000"/>
            <a:ext cx="1086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6095880"/>
            <a:ext cx="2666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7902720" y="5054760"/>
            <a:ext cx="647640" cy="1204920"/>
            <a:chOff x="7902720" y="5054760"/>
            <a:chExt cx="647640" cy="1204920"/>
          </a:xfrm>
        </p:grpSpPr>
        <p:pic>
          <p:nvPicPr>
            <p:cNvPr id="143" name="KEY" descr=""/>
            <p:cNvPicPr/>
            <p:nvPr/>
          </p:nvPicPr>
          <p:blipFill>
            <a:blip r:embed="rId5"/>
            <a:stretch/>
          </p:blipFill>
          <p:spPr>
            <a:xfrm>
              <a:off x="7902720" y="5054760"/>
              <a:ext cx="647640" cy="12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8027640" y="51004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0" y="5132520"/>
            <a:ext cx="58104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636480" y="2701800"/>
          <a:ext cx="7618680" cy="196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6480" y="2701800"/>
                    <a:ext cx="7618680" cy="19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8" name=""/>
          <p:cNvGrpSpPr/>
          <p:nvPr/>
        </p:nvGrpSpPr>
        <p:grpSpPr>
          <a:xfrm>
            <a:off x="2289240" y="912960"/>
            <a:ext cx="4311720" cy="1870920"/>
            <a:chOff x="2289240" y="912960"/>
            <a:chExt cx="4311720" cy="1870920"/>
          </a:xfrm>
        </p:grpSpPr>
        <p:graphicFrame>
          <p:nvGraphicFramePr>
            <p:cNvPr id="149" name=""/>
            <p:cNvGraphicFramePr/>
            <p:nvPr/>
          </p:nvGraphicFramePr>
          <p:xfrm>
            <a:off x="2289240" y="912960"/>
            <a:ext cx="4311720" cy="1616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89240" y="912960"/>
                      <a:ext cx="4311720" cy="161640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07932" dir="2700000" blurRad="0" rotWithShape="0">
                        <a:srgbClr val="80808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151" name=""/>
            <p:cNvSpPr/>
            <p:nvPr/>
          </p:nvSpPr>
          <p:spPr>
            <a:xfrm flipV="1">
              <a:off x="4411800" y="2479680"/>
              <a:ext cx="0" cy="30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1311840" y="4896000"/>
            <a:ext cx="1041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30400" y="4896000"/>
            <a:ext cx="133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698160" y="4896000"/>
            <a:ext cx="1086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6095880"/>
            <a:ext cx="2666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7902720" y="5054760"/>
            <a:ext cx="647640" cy="1204920"/>
            <a:chOff x="7902720" y="5054760"/>
            <a:chExt cx="647640" cy="1204920"/>
          </a:xfrm>
        </p:grpSpPr>
        <p:pic>
          <p:nvPicPr>
            <p:cNvPr id="157" name="KEY" descr=""/>
            <p:cNvPicPr/>
            <p:nvPr/>
          </p:nvPicPr>
          <p:blipFill>
            <a:blip r:embed="rId5"/>
            <a:stretch/>
          </p:blipFill>
          <p:spPr>
            <a:xfrm>
              <a:off x="7902720" y="5054760"/>
              <a:ext cx="647640" cy="12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8027640" y="51004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0" y="5132520"/>
            <a:ext cx="58104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1280" y="0"/>
            <a:ext cx="8018640" cy="3448080"/>
          </a:xfrm>
          <a:prstGeom prst="cloudCallout">
            <a:avLst>
              <a:gd name="adj1" fmla="val 23430"/>
              <a:gd name="adj2" fmla="val 7462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Thin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the SMALL critical nee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nstrated by the way the student 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 or her behavior?  What does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ld need from u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1680" y="3948120"/>
            <a:ext cx="5011560" cy="2908440"/>
          </a:xfrm>
          <a:prstGeom prst="cloudCallout">
            <a:avLst>
              <a:gd name="adj1" fmla="val 68245"/>
              <a:gd name="adj2" fmla="val -3771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oes the chi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from us based 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agnosed syndr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 disorde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636480" y="2701800"/>
          <a:ext cx="7618680" cy="196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6480" y="2701800"/>
                    <a:ext cx="7618680" cy="19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2289240" y="954000"/>
          <a:ext cx="4311720" cy="153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9240" y="954000"/>
                    <a:ext cx="4311720" cy="15321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 flipV="1">
            <a:off x="4411800" y="247932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11840" y="4524480"/>
            <a:ext cx="1041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30400" y="4524480"/>
            <a:ext cx="133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698160" y="4524480"/>
            <a:ext cx="1086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6095880"/>
            <a:ext cx="2666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7902720" y="4683240"/>
            <a:ext cx="647640" cy="1204920"/>
            <a:chOff x="7902720" y="4683240"/>
            <a:chExt cx="647640" cy="1204920"/>
          </a:xfrm>
        </p:grpSpPr>
        <p:pic>
          <p:nvPicPr>
            <p:cNvPr id="172" name="KEY" descr=""/>
            <p:cNvPicPr/>
            <p:nvPr/>
          </p:nvPicPr>
          <p:blipFill>
            <a:blip r:embed="rId5"/>
            <a:stretch/>
          </p:blipFill>
          <p:spPr>
            <a:xfrm>
              <a:off x="7902720" y="4683240"/>
              <a:ext cx="647640" cy="12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8027640" y="47289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0" y="5132520"/>
            <a:ext cx="58104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2200" y="6031080"/>
            <a:ext cx="24843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ardvark"/>
              </a:rPr>
              <a:t>What we need from the 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137040" y="6031080"/>
            <a:ext cx="26463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ardvark"/>
              </a:rPr>
              <a:t>What we will teach the 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113520" y="6031080"/>
            <a:ext cx="27064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ardvark"/>
              </a:rPr>
              <a:t>What the child needs from 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ardvark"/>
              </a:rPr>
              <a:t>Playing with Nee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636480" y="2701800"/>
          <a:ext cx="7618680" cy="196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6480" y="2701800"/>
                    <a:ext cx="7618680" cy="19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679320" y="4937040"/>
            <a:ext cx="213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needs to learn to stop hurting stu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349800" y="4937040"/>
            <a:ext cx="213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 needs to learn to control her a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21360" y="4937040"/>
            <a:ext cx="213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 needs to be forewarned of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495680" y="1905120"/>
            <a:ext cx="3810240" cy="914400"/>
          </a:xfrm>
          <a:custGeom>
            <a:avLst/>
            <a:gdLst>
              <a:gd name="textAreaLeft" fmla="*/ 952560 w 3810240"/>
              <a:gd name="textAreaRight" fmla="*/ 2857680 w 3810240"/>
              <a:gd name="textAreaTop" fmla="*/ 0 h 914400"/>
              <a:gd name="textAreaBottom" fmla="*/ 800280 h 9144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0880" y="1905120"/>
            <a:ext cx="3810240" cy="914400"/>
          </a:xfrm>
          <a:custGeom>
            <a:avLst/>
            <a:gdLst>
              <a:gd name="textAreaLeft" fmla="*/ 952560 w 3810240"/>
              <a:gd name="textAreaRight" fmla="*/ 2857680 w 3810240"/>
              <a:gd name="textAreaTop" fmla="*/ 0 h 914400"/>
              <a:gd name="textAreaBottom" fmla="*/ 800280 h 9144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6040" y="609120"/>
            <a:ext cx="77724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terven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07880" y="1931760"/>
            <a:ext cx="3810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ac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479840" y="1931760"/>
            <a:ext cx="3810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ac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3581280"/>
            <a:ext cx="3962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0160" indent="-20016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can we do so the negative behavior isn’t necessar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724280" y="3581280"/>
            <a:ext cx="3962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will we deal with problem behavior when it does occu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2001960" y="5127480"/>
            <a:ext cx="718920" cy="1332000"/>
            <a:chOff x="2001960" y="5127480"/>
            <a:chExt cx="718920" cy="1332000"/>
          </a:xfrm>
        </p:grpSpPr>
        <p:pic>
          <p:nvPicPr>
            <p:cNvPr id="192" name="KEY" descr=""/>
            <p:cNvPicPr/>
            <p:nvPr/>
          </p:nvPicPr>
          <p:blipFill>
            <a:blip r:embed="rId1"/>
            <a:stretch/>
          </p:blipFill>
          <p:spPr>
            <a:xfrm>
              <a:off x="2001960" y="5127480"/>
              <a:ext cx="718920" cy="13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2188800" y="51768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632480" y="5753160"/>
            <a:ext cx="11221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495680" y="1905120"/>
            <a:ext cx="3810240" cy="914400"/>
          </a:xfrm>
          <a:custGeom>
            <a:avLst/>
            <a:gdLst>
              <a:gd name="textAreaLeft" fmla="*/ 952560 w 3810240"/>
              <a:gd name="textAreaRight" fmla="*/ 2857680 w 3810240"/>
              <a:gd name="textAreaTop" fmla="*/ 0 h 914400"/>
              <a:gd name="textAreaBottom" fmla="*/ 800280 h 9144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1905120"/>
            <a:ext cx="3810240" cy="914400"/>
          </a:xfrm>
          <a:custGeom>
            <a:avLst/>
            <a:gdLst>
              <a:gd name="textAreaLeft" fmla="*/ 952560 w 3810240"/>
              <a:gd name="textAreaRight" fmla="*/ 2857680 w 3810240"/>
              <a:gd name="textAreaTop" fmla="*/ 0 h 914400"/>
              <a:gd name="textAreaBottom" fmla="*/ 800280 h 9144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4604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Interven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479840" y="1931760"/>
            <a:ext cx="3810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ac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3581280"/>
            <a:ext cx="3962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0160" indent="-20016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can we do so the negative behavior isn’t necessar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724280" y="3581280"/>
            <a:ext cx="3962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will we deal with problem behavior when it does occu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001960" y="5127480"/>
            <a:ext cx="718920" cy="1332000"/>
            <a:chOff x="2001960" y="5127480"/>
            <a:chExt cx="718920" cy="1332000"/>
          </a:xfrm>
        </p:grpSpPr>
        <p:pic>
          <p:nvPicPr>
            <p:cNvPr id="202" name="KEY" descr=""/>
            <p:cNvPicPr/>
            <p:nvPr/>
          </p:nvPicPr>
          <p:blipFill>
            <a:blip r:embed="rId1"/>
            <a:stretch/>
          </p:blipFill>
          <p:spPr>
            <a:xfrm>
              <a:off x="2001960" y="5127480"/>
              <a:ext cx="718920" cy="13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2188800" y="51768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1322280" y="299880"/>
            <a:ext cx="7139160" cy="3106800"/>
          </a:xfrm>
          <a:prstGeom prst="cloudCallout">
            <a:avLst>
              <a:gd name="adj1" fmla="val -23050"/>
              <a:gd name="adj2" fmla="val 75703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n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can we address pers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emotional needs so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ping strategies are 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32480" y="5753160"/>
            <a:ext cx="11221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1431720" y="793440"/>
            <a:ext cx="6002640" cy="857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uppor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566280" y="1982160"/>
            <a:ext cx="7074720" cy="144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ool and Divisional/Distri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esource, clinicians, counselor, assistan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1920" y="3294000"/>
            <a:ext cx="8521560" cy="182556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80880" indent="-3808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side Professionals and Community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Mental Health, Child Welfare, AFM Work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31920" y="4743360"/>
            <a:ext cx="7738920" cy="211464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80880" indent="-3808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mily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espite, Family Preservation, Cri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bilization Units, Home Care Worke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240760" y="5132520"/>
            <a:ext cx="62208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1431720" y="793440"/>
            <a:ext cx="6002640" cy="857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uppor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66280" y="1982160"/>
            <a:ext cx="7074720" cy="144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ool and Divisional/Distri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esource, clinicians, counselor, assistan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31920" y="3294000"/>
            <a:ext cx="8521560" cy="182556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80880" indent="-3808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side Professionals and Community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Mental Health, Child Welfare, AFM Work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31920" y="4743360"/>
            <a:ext cx="7738920" cy="211464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80880" indent="-3808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mily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espite, Family Preservation, Cri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bilization Units, Home Care Worke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240760" y="5132520"/>
            <a:ext cx="62208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614920" y="0"/>
            <a:ext cx="3529080" cy="3467160"/>
          </a:xfrm>
          <a:prstGeom prst="wedgeRectCallout">
            <a:avLst>
              <a:gd name="adj1" fmla="val -76722"/>
              <a:gd name="adj2" fmla="val 1460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ssumed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students requ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ize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supervision w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nical dire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853160" y="4111560"/>
            <a:ext cx="4290840" cy="2746440"/>
          </a:xfrm>
          <a:prstGeom prst="wedgeRectCallout">
            <a:avLst>
              <a:gd name="adj1" fmla="val -100277"/>
              <a:gd name="adj2" fmla="val -4745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oblems that the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s have are 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ed by school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requi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t are beyond scho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CHOOLc" descr=""/>
          <p:cNvPicPr/>
          <p:nvPr/>
        </p:nvPicPr>
        <p:blipFill>
          <a:blip r:embed="rId1"/>
          <a:stretch/>
        </p:blipFill>
        <p:spPr>
          <a:xfrm>
            <a:off x="1660680" y="468360"/>
            <a:ext cx="6275160" cy="5799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304920"/>
            <a:ext cx="8229600" cy="6172200"/>
          </a:xfrm>
          <a:prstGeom prst="irregularSeal2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577960" y="709560"/>
            <a:ext cx="3826080" cy="499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E.B.D.</a:t>
            </a:r>
            <a:endParaRPr b="0" lang="en-US" sz="6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1431720" y="793440"/>
            <a:ext cx="6002640" cy="857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uppor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66280" y="1982160"/>
            <a:ext cx="7074720" cy="144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ool and Divisional/Distri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esource, clinicians, counselor, assistan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1920" y="3294000"/>
            <a:ext cx="8521560" cy="182556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80880" indent="-3808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side Professionals and Community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Mental Health, Child Welfare, AFM Work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1920" y="4743360"/>
            <a:ext cx="7738920" cy="211464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80880" indent="-3808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mily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espite, Family Preservation, Cri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bilization Units, Home Care Worke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240760" y="5132520"/>
            <a:ext cx="62208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011480" y="781200"/>
            <a:ext cx="5132520" cy="3889080"/>
          </a:xfrm>
          <a:prstGeom prst="wedgeRectCallout">
            <a:avLst>
              <a:gd name="adj1" fmla="val -54731"/>
              <a:gd name="adj2" fmla="val 6179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ents may requ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s to deal with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havior of their child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home.  Hom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be crucial if we 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be successful in hel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childr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1431720" y="793440"/>
            <a:ext cx="6002640" cy="857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uppor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66280" y="1982160"/>
            <a:ext cx="7074720" cy="144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ool and Divisional/Distri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esource, clinicians, counselor, assistan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31920" y="3294000"/>
            <a:ext cx="8521560" cy="182556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80880" indent="-3808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side Professionals and Community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Mental Health, Child Welfare, AFM Work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31920" y="4743360"/>
            <a:ext cx="7738920" cy="211464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80880" indent="-3808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mily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espite, Family Preservation, Cri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bilization Units, Home Care Worke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240760" y="5132520"/>
            <a:ext cx="62208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57160" y="977760"/>
            <a:ext cx="7790040" cy="3961080"/>
          </a:xfrm>
          <a:prstGeom prst="cloudCallout">
            <a:avLst>
              <a:gd name="adj1" fmla="val -38731"/>
              <a:gd name="adj2" fmla="val 55532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n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supports do the caregivers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function effectively with the chi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home.  Not what can the fami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to support the school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comes and Eval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28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tudent Specif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will we know that our programming was success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27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erformance Objec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will we know that we are on track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22360" y="4991040"/>
            <a:ext cx="8180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ardvark"/>
              </a:rPr>
              <a:t>Evalu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ardvark"/>
              </a:rPr>
              <a:t>Outcomes must be written in such a manner that we will know when students have met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comes and Eval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28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tudent Specif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will we know that our programming was success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27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erformance Objec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will we know that we are on track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22360" y="4991040"/>
            <a:ext cx="8180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ardvark"/>
              </a:rPr>
              <a:t>Evalu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ardvark"/>
              </a:rPr>
              <a:t>Outcomes must be written in such a manner that we will know when students have met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117880" y="4148280"/>
            <a:ext cx="7026120" cy="1931760"/>
          </a:xfrm>
          <a:prstGeom prst="wedgeRoundRectCallout">
            <a:avLst>
              <a:gd name="adj1" fmla="val -33597"/>
              <a:gd name="adj2" fmla="val -126745"/>
              <a:gd name="adj3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ardvark"/>
              </a:rPr>
              <a:t>May be all you need w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ardvark"/>
              </a:rPr>
              <a:t>addressing personal/emo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ardvark"/>
              </a:rPr>
              <a:t>needs by changing enviro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comes and Eval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28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tudent Specif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will we know that our programming was success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27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erformance Objec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will we know that we are on track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2360" y="4991040"/>
            <a:ext cx="8180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ardvark"/>
              </a:rPr>
              <a:t>Evalu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ardvark"/>
              </a:rPr>
              <a:t>Outcomes must be written in such a manner that we will know when students have met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452600" y="4183200"/>
            <a:ext cx="7278480" cy="2325600"/>
          </a:xfrm>
          <a:prstGeom prst="wedgeRoundRectCallout">
            <a:avLst>
              <a:gd name="adj1" fmla="val -837"/>
              <a:gd name="adj2" fmla="val -116893"/>
              <a:gd name="adj3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ardvark"/>
              </a:rPr>
              <a:t>Are particularly important w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ardvark"/>
              </a:rPr>
              <a:t>addressing social-learning nee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ardvark"/>
              </a:rPr>
              <a:t>or when person/emotional nee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ardvark"/>
              </a:rPr>
              <a:t>are to be addressed in st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havior Intervention Pl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1371600" y="3162240"/>
            <a:ext cx="6400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ritical Programming nee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388620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erven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371600" y="461016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ppor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371600" y="2438280"/>
            <a:ext cx="6400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urpose and backgrou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371600" y="533412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utco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s For EBD Pl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3510000"/>
            <a:ext cx="523080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cial-Learning Nee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85800" y="4273560"/>
            <a:ext cx="613260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rsonal/Emotional Nee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" y="5057640"/>
            <a:ext cx="469728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active Strateg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" y="5823000"/>
            <a:ext cx="469728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active Strateg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" y="1981080"/>
            <a:ext cx="5513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ehavioral Targe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2744640"/>
            <a:ext cx="59342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nctional Understand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253200" y="2611440"/>
            <a:ext cx="492120" cy="1120680"/>
            <a:chOff x="6253200" y="2611440"/>
            <a:chExt cx="492120" cy="1120680"/>
          </a:xfrm>
        </p:grpSpPr>
        <p:pic>
          <p:nvPicPr>
            <p:cNvPr id="258" name="KEY" descr=""/>
            <p:cNvPicPr/>
            <p:nvPr/>
          </p:nvPicPr>
          <p:blipFill>
            <a:blip r:embed="rId1"/>
            <a:stretch/>
          </p:blipFill>
          <p:spPr>
            <a:xfrm>
              <a:off x="6253200" y="2611440"/>
              <a:ext cx="492120" cy="11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6301800" y="2646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6175440" y="4025880"/>
            <a:ext cx="647640" cy="1204920"/>
            <a:chOff x="6175440" y="4025880"/>
            <a:chExt cx="647640" cy="1204920"/>
          </a:xfrm>
        </p:grpSpPr>
        <p:pic>
          <p:nvPicPr>
            <p:cNvPr id="261" name="KEY" descr=""/>
            <p:cNvPicPr/>
            <p:nvPr/>
          </p:nvPicPr>
          <p:blipFill>
            <a:blip r:embed="rId2"/>
            <a:stretch/>
          </p:blipFill>
          <p:spPr>
            <a:xfrm>
              <a:off x="6175440" y="4025880"/>
              <a:ext cx="647640" cy="12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6300360" y="40716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6138720" y="5526000"/>
            <a:ext cx="718920" cy="1332000"/>
            <a:chOff x="6138720" y="5526000"/>
            <a:chExt cx="718920" cy="1332000"/>
          </a:xfrm>
        </p:grpSpPr>
        <p:pic>
          <p:nvPicPr>
            <p:cNvPr id="264" name="KEY" descr=""/>
            <p:cNvPicPr/>
            <p:nvPr/>
          </p:nvPicPr>
          <p:blipFill>
            <a:blip r:embed="rId3"/>
            <a:stretch/>
          </p:blipFill>
          <p:spPr>
            <a:xfrm>
              <a:off x="6138720" y="5526000"/>
              <a:ext cx="718920" cy="13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6325560" y="55753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 rot="5400000">
            <a:off x="1801080" y="3456000"/>
            <a:ext cx="3132360" cy="639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</a:rPr>
              <a:t>Behavior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" name=""/>
          <p:cNvSpPr txBox="1"/>
          <p:nvPr/>
        </p:nvSpPr>
        <p:spPr>
          <a:xfrm rot="5400000">
            <a:off x="2605320" y="3032640"/>
            <a:ext cx="3657600" cy="639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</a:rPr>
              <a:t>Intervention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" name=""/>
          <p:cNvSpPr txBox="1"/>
          <p:nvPr/>
        </p:nvSpPr>
        <p:spPr>
          <a:xfrm rot="5400000">
            <a:off x="3748320" y="2728080"/>
            <a:ext cx="3657600" cy="639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</a:rPr>
              <a:t>Planning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nding Categorie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Cau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2381400"/>
            <a:ext cx="0" cy="44766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52400" y="2276640"/>
            <a:ext cx="3232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GAN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67440" y="2276640"/>
            <a:ext cx="3232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.B.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27200" y="3305160"/>
            <a:ext cx="323352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6120" indent="-276120"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re cognitive del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6120" indent="-276120"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urodevelop-mental dis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6120" indent="-276120"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urochemical imbal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14880" y="3305160"/>
            <a:ext cx="323388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6120" indent="-276120"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re traumatic experi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6120" indent="-276120"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treme negl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6120" indent="-276120"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rely damaging experiences with primary caregi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616720" y="3473280"/>
            <a:ext cx="2171520" cy="283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BD</a:t>
            </a:r>
            <a:endParaRPr b="0" lang="en-US" sz="7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233360" y="3473280"/>
            <a:ext cx="2171880" cy="283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TH</a:t>
            </a:r>
            <a:endParaRPr b="0" lang="en-US" sz="7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H</a:t>
            </a:r>
            <a:endParaRPr b="0" lang="en-US" sz="7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4040" y="609120"/>
            <a:ext cx="8514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wo Student Specific Pl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.E.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I.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2895480"/>
            <a:ext cx="3809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and Addres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3429000"/>
            <a:ext cx="3809880" cy="31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ademic learning n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earning needs including social, behavior and commun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648320" y="2895480"/>
            <a:ext cx="3809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Identify and Addres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429000"/>
            <a:ext cx="3809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otional/behavioral n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side service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times the system n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351080" y="5945040"/>
            <a:ext cx="2023920" cy="91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OTH  MH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5996160" y="6095880"/>
            <a:ext cx="1823760" cy="762120"/>
            <a:chOff x="5996160" y="6095880"/>
            <a:chExt cx="1823760" cy="762120"/>
          </a:xfrm>
        </p:grpSpPr>
        <p:sp>
          <p:nvSpPr>
            <p:cNvPr id="68" name=""/>
            <p:cNvSpPr/>
            <p:nvPr/>
          </p:nvSpPr>
          <p:spPr>
            <a:xfrm>
              <a:off x="5996160" y="6095880"/>
              <a:ext cx="182376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 txBox="1"/>
            <p:nvPr/>
          </p:nvSpPr>
          <p:spPr>
            <a:xfrm>
              <a:off x="6120360" y="6113880"/>
              <a:ext cx="1654200" cy="732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999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b2b2b2"/>
                    </a:solidFill>
                    <a:miter/>
                  </a:ln>
                  <a:gradFill rotWithShape="0">
                    <a:gsLst>
                      <a:gs pos="0">
                        <a:srgbClr val="520402"/>
                      </a:gs>
                      <a:gs pos="100000">
                        <a:srgbClr val="ffcc00"/>
                      </a:gs>
                    </a:gsLst>
                    <a:lin ang="5400000"/>
                  </a:gradFill>
                  <a:effectLst>
                    <a:outerShdw dist="153753" dir="2700000" blurRad="0" rotWithShape="0">
                      <a:srgbClr val="875b0d"/>
                    </a:outerShdw>
                  </a:effectLst>
                  <a:latin typeface="Arial Black"/>
                </a:rPr>
                <a:t>E.B.D.</a:t>
              </a:r>
              <a:endPara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84120" y="1177920"/>
            <a:ext cx="4191120" cy="56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afe school policies and procedur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des of conduc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arent involvement initiativ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lans for positive learning environm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ffective classroom management strateg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upports to develop personal and social skil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upport for cultural and racial divers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241200"/>
            <a:ext cx="8320320" cy="782640"/>
          </a:xfrm>
          <a:custGeom>
            <a:avLst/>
            <a:gdLst>
              <a:gd name="textAreaLeft" fmla="*/ 2080080 w 8320320"/>
              <a:gd name="textAreaRight" fmla="*/ 6240240 w 8320320"/>
              <a:gd name="textAreaTop" fmla="*/ 0 h 782640"/>
              <a:gd name="textAreaBottom" fmla="*/ 685080 h 78264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ool Plan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4618080" y="1644480"/>
            <a:ext cx="4145040" cy="4390920"/>
            <a:chOff x="4618080" y="1644480"/>
            <a:chExt cx="4145040" cy="4390920"/>
          </a:xfrm>
        </p:grpSpPr>
        <p:sp>
          <p:nvSpPr>
            <p:cNvPr id="73" name=""/>
            <p:cNvSpPr txBox="1"/>
            <p:nvPr/>
          </p:nvSpPr>
          <p:spPr>
            <a:xfrm>
              <a:off x="5167440" y="4838400"/>
              <a:ext cx="3046320" cy="1197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70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8000"/>
                    </a:solidFill>
                    <a:miter/>
                  </a:ln>
                  <a:blipFill rotWithShape="0">
                    <a:blip r:embed="rId1"/>
                    <a:srcRect/>
                    <a:tile tx="0" ty="0" sx="100000" sy="100000" algn="ctr"/>
                  </a:blipFill>
                  <a:effectLst>
                    <a:outerShdw dist="153753" dir="2700000" blurRad="0" rotWithShape="0">
                      <a:srgbClr val="c7dfd3"/>
                    </a:outerShdw>
                  </a:effectLst>
                  <a:latin typeface="Times New Roman"/>
                </a:rPr>
                <a:t>Effective</a:t>
              </a:r>
              <a:endPara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8000"/>
                    </a:solidFill>
                    <a:miter/>
                  </a:ln>
                  <a:blipFill rotWithShape="0">
                    <a:blip r:embed="rId3"/>
                    <a:srcRect/>
                    <a:tile tx="0" ty="0" sx="100000" sy="100000" algn="ctr"/>
                  </a:blipFill>
                  <a:effectLst>
                    <a:outerShdw dist="153753" dir="2700000" blurRad="0" rotWithShape="0">
                      <a:srgbClr val="c7dfd3"/>
                    </a:outerShdw>
                  </a:effectLst>
                  <a:latin typeface="Times New Roman"/>
                </a:rPr>
                <a:t>School</a:t>
              </a:r>
              <a:endPara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  <a:ea typeface="Times New Roman"/>
              </a:endParaRPr>
            </a:p>
          </p:txBody>
        </p:sp>
        <p:pic>
          <p:nvPicPr>
            <p:cNvPr id="74" name="SCHOOLc" descr=""/>
            <p:cNvPicPr/>
            <p:nvPr/>
          </p:nvPicPr>
          <p:blipFill>
            <a:blip r:embed="rId5"/>
            <a:stretch/>
          </p:blipFill>
          <p:spPr>
            <a:xfrm>
              <a:off x="4618080" y="1644480"/>
              <a:ext cx="4145040" cy="3216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ehavior Intervention Pl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162240"/>
            <a:ext cx="6400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ritical Programming nee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371600" y="388620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erven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71600" y="461016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ppor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438280"/>
            <a:ext cx="6400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urpose and backgrou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371600" y="533412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utcomes and evalu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Times New Roman"/>
              </a:rPr>
              <a:t>Purpose and Back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114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00"/>
                </a:solidFill>
                <a:uFillTx/>
                <a:latin typeface="Times New Roman"/>
              </a:rPr>
              <a:t>Purp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1600200"/>
            <a:ext cx="40384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re we trying to accomplish with this pla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7680" y="3730680"/>
            <a:ext cx="4114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00"/>
                </a:solidFill>
                <a:uFillTx/>
                <a:latin typeface="Times New Roman"/>
              </a:rPr>
              <a:t>Backgr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47680" y="4187880"/>
            <a:ext cx="411480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student trying to accomplish with these problem behavi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52320" y="1488960"/>
            <a:ext cx="26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behavior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ge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67360" y="5230800"/>
            <a:ext cx="282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driv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behavior and w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its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fun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337000" y="1940040"/>
            <a:ext cx="2286000" cy="3047760"/>
          </a:xfrm>
          <a:prstGeom prst="rect">
            <a:avLst/>
          </a:prstGeom>
          <a:ln w="0">
            <a:noFill/>
          </a:ln>
        </p:spPr>
      </p:pic>
      <p:grpSp>
        <p:nvGrpSpPr>
          <p:cNvPr id="89" name=""/>
          <p:cNvGrpSpPr/>
          <p:nvPr/>
        </p:nvGrpSpPr>
        <p:grpSpPr>
          <a:xfrm>
            <a:off x="8039160" y="5337000"/>
            <a:ext cx="492120" cy="1121040"/>
            <a:chOff x="8039160" y="5337000"/>
            <a:chExt cx="492120" cy="1121040"/>
          </a:xfrm>
        </p:grpSpPr>
        <p:pic>
          <p:nvPicPr>
            <p:cNvPr id="90" name="KEY" descr=""/>
            <p:cNvPicPr/>
            <p:nvPr/>
          </p:nvPicPr>
          <p:blipFill>
            <a:blip r:embed="rId2"/>
            <a:stretch/>
          </p:blipFill>
          <p:spPr>
            <a:xfrm>
              <a:off x="8039160" y="5337000"/>
              <a:ext cx="492120" cy="112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087760" y="5372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3689280" y="5634000"/>
            <a:ext cx="108288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Purpose and Back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114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urp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600200"/>
            <a:ext cx="40384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re we trying to accomplish with this pla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47680" y="3730680"/>
            <a:ext cx="4114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ackgr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47680" y="4187880"/>
            <a:ext cx="411480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student trying to accomplish with these problem behavi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152320" y="1488960"/>
            <a:ext cx="26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behavior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ge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067360" y="5230800"/>
            <a:ext cx="282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driv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behavior and w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its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fun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37000" y="1940040"/>
            <a:ext cx="2286000" cy="304776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8039160" y="5337000"/>
            <a:ext cx="492120" cy="1121040"/>
            <a:chOff x="8039160" y="5337000"/>
            <a:chExt cx="492120" cy="1121040"/>
          </a:xfrm>
        </p:grpSpPr>
        <p:pic>
          <p:nvPicPr>
            <p:cNvPr id="102" name="KEY" descr=""/>
            <p:cNvPicPr/>
            <p:nvPr/>
          </p:nvPicPr>
          <p:blipFill>
            <a:blip r:embed="rId2"/>
            <a:stretch/>
          </p:blipFill>
          <p:spPr>
            <a:xfrm>
              <a:off x="8039160" y="5337000"/>
              <a:ext cx="492120" cy="112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8087760" y="5372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531720" y="279360"/>
            <a:ext cx="7608960" cy="3689280"/>
          </a:xfrm>
          <a:prstGeom prst="cloudCallout">
            <a:avLst>
              <a:gd name="adj1" fmla="val 13967"/>
              <a:gd name="adj2" fmla="val 87736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n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re these behaviors useful to the stud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id the student learn to use these strategi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ussions with the student, knowledg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ggers and behavior patterns,  and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’s life experiences help us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questions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689280" y="5634000"/>
            <a:ext cx="108288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6T18:55:58Z</dcterms:created>
  <dc:creator>Desktop Initiative Base v1.0</dc:creator>
  <dc:description/>
  <dc:language>en-US</dc:language>
  <cp:lastModifiedBy>Alice Spencler</cp:lastModifiedBy>
  <dcterms:modified xsi:type="dcterms:W3CDTF">2000-12-21T22:26:44Z</dcterms:modified>
  <cp:revision>84</cp:revision>
  <dc:subject/>
  <dc:title>Two Program Components</dc:title>
</cp:coreProperties>
</file>